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148-4363-4ABA-B6B6-906B2D46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3FF-7272-4985-87D3-070EEE20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948-8E9C-4D24-A91F-B2D6991C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E29-A4A5-490C-A4B3-EB3CADA2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24D-4F7E-41A2-A884-3936121E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F2C-73E9-41C2-BA54-4F808AEF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8BA-F32D-4B1F-B171-D97FC214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0C5-9AEE-4E15-91EA-2B297553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730-7530-4935-8365-DADCD681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F0C-5FE5-4E81-BFB6-5DAB8C59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261-850F-4D75-8B2D-BDFD3993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343-CA91-4359-91EC-932AA83A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9C5D-1C7A-441A-855E-119A31ACE9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600120" y="1413000"/>
            <a:ext cx="7643880" cy="4083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Utworzona w 19.10.1918 roku w Cieszy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Dążyła do przejęcia władzy na terenach byłego Księstwa Cieszyńskiego po upadku Cesarstwa Austro-Węgi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grudniu 1918 powołała Tymczasowy Rząd Krajowy Księstwa Cieszyńsk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Po okresie walk pomiędzy wojskiem polskim i oddziałami czechosłowackimi na początku 1919 dążyła, przy wsparciu sił alianckich, do przeprowadzenia plebiscytu na spornych terytori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obliczu niemożności rozwiązania konfliktu oraz po przejęciu części spornych terenów Śląska Cieszyńskiego przez polską administrację centralną, w lipcu 1920 roku uległa rozwiązan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8:42Z</dcterms:created>
  <dc:creator>rena</dc:creator>
  <dc:description/>
  <dc:language>en-US</dc:language>
  <cp:lastModifiedBy>IB</cp:lastModifiedBy>
  <dcterms:modified xsi:type="dcterms:W3CDTF">2013-03-14T17:24:50Z</dcterms:modified>
  <cp:revision>7</cp:revision>
  <dc:subject/>
  <dc:title>Rada Narodowa Księstwa Cieszyńskiego</dc:title>
</cp:coreProperties>
</file>